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D3E-B004-4E86-B7D1-16CD782B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764-16A1-405B-BE41-7EF3423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238-CFEC-41A0-BDFD-7999CF08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37D-2333-4DF7-9F33-60669A2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65A-3255-43A1-9D7E-CC77C53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9ED-82C2-4295-B796-83B6AAFA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37C-9245-4415-B8B6-D46B2477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1B1-F944-4949-885E-ECF57F4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5F8-590C-48A6-BEB5-372FADA4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B43-5362-41E7-83F9-1F38953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116-8B09-484C-AD36-E685A30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02C-B901-4CA1-A61F-71D2EC8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7A9-46B7-4081-9F25-9597E75529D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135440"/>
            <a:ext cx="5077440" cy="247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Incu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724280"/>
            <a:ext cx="526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y Danielle Qui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263664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I enjoyed the brain incursion beca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15920"/>
            <a:ext cx="2916360" cy="1584360"/>
          </a:xfrm>
          <a:prstGeom prst="cloudCallout">
            <a:avLst>
              <a:gd name="adj1" fmla="val 4325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move arou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4869000"/>
            <a:ext cx="2916360" cy="1584360"/>
          </a:xfrm>
          <a:prstGeom prst="cloudCallout">
            <a:avLst>
              <a:gd name="adj1" fmla="val -63935"/>
              <a:gd name="adj2" fmla="val -111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train our left and right side of the brain at the same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5157720"/>
            <a:ext cx="2916360" cy="1584360"/>
          </a:xfrm>
          <a:prstGeom prst="cloudCallout">
            <a:avLst>
              <a:gd name="adj1" fmla="val 46189"/>
              <a:gd name="adj2" fmla="val -12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touch a lamb’s br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do little activity’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8000" y="263700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hat I’ve learnt about the brai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15920"/>
            <a:ext cx="2916360" cy="1584360"/>
          </a:xfrm>
          <a:prstGeom prst="cloudCallout">
            <a:avLst>
              <a:gd name="adj1" fmla="val 4325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 baby’s, top of the head is very so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4869000"/>
            <a:ext cx="2916360" cy="1800000"/>
          </a:xfrm>
          <a:prstGeom prst="cloudCallout">
            <a:avLst>
              <a:gd name="adj1" fmla="val -63935"/>
              <a:gd name="adj2" fmla="val -104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you breathe in and out, slowly, and hold your pulse. It will slow dow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273640"/>
            <a:ext cx="2916360" cy="1584360"/>
          </a:xfrm>
          <a:prstGeom prst="cloudCallout">
            <a:avLst>
              <a:gd name="adj1" fmla="val 41291"/>
              <a:gd name="adj2" fmla="val -136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he right side of your brain controls the left side of your bod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left side of your brain controls the right side of the 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8000" y="263700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How I felt about the brain incur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15920"/>
            <a:ext cx="2916360" cy="1657440"/>
          </a:xfrm>
          <a:prstGeom prst="cloudCallout">
            <a:avLst>
              <a:gd name="adj1" fmla="val 43250"/>
              <a:gd name="adj2" fmla="val 93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en she showed us the lamb’s brain, I felt a bit si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4869000"/>
            <a:ext cx="2916360" cy="1584360"/>
          </a:xfrm>
          <a:prstGeom prst="cloudCallout">
            <a:avLst>
              <a:gd name="adj1" fmla="val -63935"/>
              <a:gd name="adj2" fmla="val -111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hen I think about the brain incursion, I feel happy that I don’t have to see picture’s of brain and real life brain’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5157720"/>
            <a:ext cx="2916360" cy="1584360"/>
          </a:xfrm>
          <a:prstGeom prst="cloudCallout">
            <a:avLst>
              <a:gd name="adj1" fmla="val 46189"/>
              <a:gd name="adj2" fmla="val -12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en we touched the brain,  I felt a bit weir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hen she showed us the picture on the white board, with the skull and the pole going into the face, I felt a bit sca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8000" y="263700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hat I had wondere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15920"/>
            <a:ext cx="2916360" cy="1584360"/>
          </a:xfrm>
          <a:prstGeom prst="cloudCallout">
            <a:avLst>
              <a:gd name="adj1" fmla="val 4325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what kind of things she would do nex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4869000"/>
            <a:ext cx="2916360" cy="1584360"/>
          </a:xfrm>
          <a:prstGeom prst="cloudCallout">
            <a:avLst>
              <a:gd name="adj1" fmla="val -63935"/>
              <a:gd name="adj2" fmla="val -111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if she enjoys teaching people about the br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157720"/>
            <a:ext cx="2916360" cy="1584360"/>
          </a:xfrm>
          <a:prstGeom prst="cloudCallout">
            <a:avLst>
              <a:gd name="adj1" fmla="val 46189"/>
              <a:gd name="adj2" fmla="val -12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how long she had been studying the brain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what the lamb’s brain would feel lik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2997360"/>
            <a:ext cx="61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Thank you for watching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my Power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350028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57336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00:00:50Z</dcterms:created>
  <dc:creator>Philip Quirk</dc:creator>
  <dc:description/>
  <dc:language>en-US</dc:language>
  <cp:lastModifiedBy>Philip Quirk</cp:lastModifiedBy>
  <dcterms:modified xsi:type="dcterms:W3CDTF">2011-05-22T00:41:00Z</dcterms:modified>
  <cp:revision>4</cp:revision>
  <dc:subject/>
  <dc:title>Brain Incursion </dc:title>
</cp:coreProperties>
</file>